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612-3472-4142-AC8A-56ACB1D8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EC8-FA14-489A-8265-6F4B5081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E50-E819-464A-8505-0023E7EF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BF3-F9C4-49FC-BC2D-99AFDD5E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167-9858-46B7-92DC-88FAC3E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460-9B51-436C-BBAE-3DF6F7A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5D8-BB31-4A76-BFF2-F24D2D2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C18-8526-4552-9BFB-BB1768D0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3CE-182C-4F0D-BC3E-26AAFA4C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A65-A855-4225-9602-8C06091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EFF-AD22-41E3-A705-B2413AE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BF0-54B1-48AA-9962-553F6B3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3206-EE66-42C4-B403-B14EAFB36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5ced3deaa9c4780c90d030634f4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36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Arial"/>
              </a:rPr>
              <a:t>Лес - природное сообще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оловей"/>
          <p:cNvPicPr/>
          <p:nvPr/>
        </p:nvPicPr>
        <p:blipFill>
          <a:blip r:embed="rId1"/>
          <a:stretch/>
        </p:blipFill>
        <p:spPr>
          <a:xfrm>
            <a:off x="468360" y="333360"/>
            <a:ext cx="3078000" cy="331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укушка"/>
          <p:cNvPicPr/>
          <p:nvPr/>
        </p:nvPicPr>
        <p:blipFill>
          <a:blip r:embed="rId2"/>
          <a:stretch/>
        </p:blipFill>
        <p:spPr>
          <a:xfrm>
            <a:off x="4643280" y="333360"/>
            <a:ext cx="4281480" cy="308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волга"/>
          <p:cNvPicPr/>
          <p:nvPr/>
        </p:nvPicPr>
        <p:blipFill>
          <a:blip r:embed="rId3"/>
          <a:stretch/>
        </p:blipFill>
        <p:spPr>
          <a:xfrm>
            <a:off x="4140360" y="3645000"/>
            <a:ext cx="3419280" cy="289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жаворонок"/>
          <p:cNvPicPr/>
          <p:nvPr/>
        </p:nvPicPr>
        <p:blipFill>
          <a:blip r:embed="rId4"/>
          <a:stretch/>
        </p:blipFill>
        <p:spPr>
          <a:xfrm>
            <a:off x="971640" y="3716280"/>
            <a:ext cx="269856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 rot="20697000">
            <a:off x="418680" y="135072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23032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 rot="783600">
            <a:off x="6399360" y="1453680"/>
            <a:ext cx="25304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 rot="804600">
            <a:off x="1479600" y="4116240"/>
            <a:ext cx="2459160" cy="218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5"/>
          <a:stretch/>
        </p:blipFill>
        <p:spPr>
          <a:xfrm rot="20968200">
            <a:off x="4965480" y="4086000"/>
            <a:ext cx="2674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2926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626PI4CA2FMRD1CA7I4QEDCA8496UDCADMLCHPCAE2BYY7CA4BB2NFCA4MBHZLCA746JB6CAUBKAK7CACOXT3BCA91683XCAVKIEVCCAYC0WS5CAP5T98KCAE1F6NQCAMNT36FCA5XISRGCA592M1ICARD76SJ"/>
          <p:cNvPicPr/>
          <p:nvPr/>
        </p:nvPicPr>
        <p:blipFill>
          <a:blip r:embed="rId1"/>
          <a:stretch/>
        </p:blipFill>
        <p:spPr>
          <a:xfrm>
            <a:off x="785880" y="1357200"/>
            <a:ext cx="1655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SWLW1FCALFYOW6CAYLUNX0CAQPLY6SCAQCEJ08CA283YTKCAMHOXYCCADE9NKHCA8T3I06CAIEN79QCAMOBASPCAWAKP3CCAXYGMYHCAMH7NM2CAGO7GBDCA05LD1BCAH5R85JCASWCPYKCAQES8ENCAZP5Z98"/>
          <p:cNvPicPr/>
          <p:nvPr/>
        </p:nvPicPr>
        <p:blipFill>
          <a:blip r:embed="rId2"/>
          <a:stretch/>
        </p:blipFill>
        <p:spPr>
          <a:xfrm>
            <a:off x="3214800" y="1714680"/>
            <a:ext cx="2017440" cy="180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70Q0OPCAN4JA5MCA92VM4PCA7X5RQPCAZ14VK2CAJETE09CADAZ9LLCAHJBLP0CAQVX2GSCA91E2CTCA2QDX0GCATNAO7ICAZWM5K2CAVI7MVZCAWU6R6QCACX2N2MCA3P4N2PCAZFH6LHCA2XL980CA8UO4LH"/>
          <p:cNvPicPr/>
          <p:nvPr/>
        </p:nvPicPr>
        <p:blipFill>
          <a:blip r:embed="rId3"/>
          <a:stretch/>
        </p:blipFill>
        <p:spPr>
          <a:xfrm>
            <a:off x="5786280" y="1285920"/>
            <a:ext cx="3097440" cy="187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SI724PCAFPSNDYCAUJF9W8CAHFWPADCA8IUZG1CASG9TBICAQ2G3ARCAK5SQA9CA2ZEK2BCAVJITCZCAXBXDJ5CA5ZHL8XCA4KV9TECAVNDY34CAHO6RY5CAIT76LFCA1HFKIOCAZE1IO5CAGUZJHSCA6CLIR5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ASXHNCANOMH2SCALS2ZT4CALIDYNZCATFX3VQCAJY2BVOCA2DSL0KCAFBTL7JCALSXEHICAFQELM9CAQXTPYMCAAF0OJ5CA3QWTARCA8DI6FXCABEJG17CAZ643PECAMN0Y8QCAHEVGZTCA1A727KCAO9K1HX"/>
          <p:cNvPicPr/>
          <p:nvPr/>
        </p:nvPicPr>
        <p:blipFill>
          <a:blip r:embed="rId5"/>
          <a:stretch/>
        </p:blipFill>
        <p:spPr>
          <a:xfrm>
            <a:off x="4643280" y="40719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4313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Лесная  подсти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медведь2"/>
          <p:cNvPicPr/>
          <p:nvPr/>
        </p:nvPicPr>
        <p:blipFill>
          <a:blip r:embed="rId1"/>
          <a:stretch/>
        </p:blipFill>
        <p:spPr>
          <a:xfrm>
            <a:off x="250920" y="1844640"/>
            <a:ext cx="5329080" cy="429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715000" y="1428840"/>
            <a:ext cx="314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ядный зверь,не очень подвижный, но может быстро бегать, прыгать, влезать на деревья, плавать зимой с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лось2"/>
          <p:cNvPicPr/>
          <p:nvPr/>
        </p:nvPicPr>
        <p:blipFill>
          <a:blip r:embed="rId1"/>
          <a:stretch/>
        </p:blipFill>
        <p:spPr>
          <a:xfrm>
            <a:off x="214200" y="142884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000840" y="1500120"/>
            <a:ext cx="2819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сной травояд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азличные сезоны года  потребляют разное количество пищи. В зимний период они объединяются в группы. С большими ро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рысь"/>
          <p:cNvPicPr/>
          <p:nvPr/>
        </p:nvPicPr>
        <p:blipFill>
          <a:blip r:embed="rId1"/>
          <a:stretch/>
        </p:blipFill>
        <p:spPr>
          <a:xfrm>
            <a:off x="250920" y="1700280"/>
            <a:ext cx="4949640" cy="4825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580000" y="1484280"/>
            <a:ext cx="324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ищник, имеет пятнистый окрас. По бокам головы развиты баки, а на ушах- кисточки. Затаившись, поджидает жертву и тихо подкрадываетс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заяц1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305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714840" y="1500120"/>
            <a:ext cx="5033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зиму меняет окрас, становится белым, только кончики ушей черные, шерсть становится гу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заяц2"/>
          <p:cNvPicPr/>
          <p:nvPr/>
        </p:nvPicPr>
        <p:blipFill>
          <a:blip r:embed="rId2"/>
          <a:stretch/>
        </p:blipFill>
        <p:spPr>
          <a:xfrm>
            <a:off x="5643720" y="378612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поиск\Pictures\greenpeace.gif"/>
          <p:cNvPicPr/>
          <p:nvPr/>
        </p:nvPicPr>
        <p:blipFill>
          <a:blip r:embed="rId1"/>
          <a:stretch/>
        </p:blipFill>
        <p:spPr>
          <a:xfrm>
            <a:off x="324000" y="2997360"/>
            <a:ext cx="3887640" cy="369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поиск\Pictures\GrennPeace1.jpg"/>
          <p:cNvPicPr/>
          <p:nvPr/>
        </p:nvPicPr>
        <p:blipFill>
          <a:blip r:embed="rId2"/>
          <a:stretch/>
        </p:blipFill>
        <p:spPr>
          <a:xfrm>
            <a:off x="2916360" y="0"/>
            <a:ext cx="33526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поиск\Pictures\tonusclub_greenpeace.jpg"/>
          <p:cNvPicPr/>
          <p:nvPr/>
        </p:nvPicPr>
        <p:blipFill>
          <a:blip r:embed="rId3"/>
          <a:stretch/>
        </p:blipFill>
        <p:spPr>
          <a:xfrm>
            <a:off x="457200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8215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1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54640"/>
          </a:xfrm>
          <a:prstGeom prst="rect">
            <a:avLst/>
          </a:prstGeom>
          <a:ln w="0">
            <a:noFill/>
          </a:ln>
        </p:spPr>
      </p:pic>
      <p:pic>
        <p:nvPicPr>
          <p:cNvPr id="44" name="Pticcy_pojut_posle_dozhdy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7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le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857160" y="458280"/>
            <a:ext cx="735804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взрос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месте с нами живет н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в и журавль, попугай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к и медведь, стрекоза и к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е рощи, лесные дуб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и, речушки, деревья и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оверяют- тебе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самый умный, а значит 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се живое, что есть на план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оч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нял ли я, что такое лесное сооб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ю ли я, какие организмы составляют сообщество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ктивно ли я работа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6" descr="dl5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1571760" y="3571920"/>
            <a:ext cx="6357960" cy="30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Спасибо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6e578f871fb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_b09851c165bda5699f9b25c0a24b6b97"/>
          <p:cNvPicPr/>
          <p:nvPr/>
        </p:nvPicPr>
        <p:blipFill>
          <a:blip r:embed="rId1"/>
          <a:stretch/>
        </p:blipFill>
        <p:spPr>
          <a:xfrm>
            <a:off x="395280" y="43164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7811121_Les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921867cf46a0cbd21770c12377d97d9"/>
          <p:cNvPicPr/>
          <p:nvPr/>
        </p:nvPicPr>
        <p:blipFill>
          <a:blip r:embed="rId1"/>
          <a:stretch/>
        </p:blipFill>
        <p:spPr>
          <a:xfrm>
            <a:off x="324000" y="237960"/>
            <a:ext cx="8496000" cy="638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69600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Лишайники и  м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 flipV="1" rot="10800000">
            <a:off x="5508720" y="46519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502"/>
          <p:cNvPicPr/>
          <p:nvPr/>
        </p:nvPicPr>
        <p:blipFill>
          <a:blip r:embed="rId1"/>
          <a:stretch/>
        </p:blipFill>
        <p:spPr>
          <a:xfrm>
            <a:off x="250920" y="1052640"/>
            <a:ext cx="315756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raspberry1"/>
          <p:cNvPicPr/>
          <p:nvPr/>
        </p:nvPicPr>
        <p:blipFill>
          <a:blip r:embed="rId2"/>
          <a:stretch/>
        </p:blipFill>
        <p:spPr>
          <a:xfrm>
            <a:off x="2268360" y="2924280"/>
            <a:ext cx="3167280" cy="359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011"/>
          <p:cNvPicPr/>
          <p:nvPr/>
        </p:nvPicPr>
        <p:blipFill>
          <a:blip r:embed="rId3"/>
          <a:stretch/>
        </p:blipFill>
        <p:spPr>
          <a:xfrm>
            <a:off x="4284720" y="5084640"/>
            <a:ext cx="237492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921"/>
          <p:cNvPicPr/>
          <p:nvPr/>
        </p:nvPicPr>
        <p:blipFill>
          <a:blip r:embed="rId4"/>
          <a:stretch/>
        </p:blipFill>
        <p:spPr>
          <a:xfrm>
            <a:off x="6443640" y="5805360"/>
            <a:ext cx="12240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922"/>
          <p:cNvPicPr/>
          <p:nvPr/>
        </p:nvPicPr>
        <p:blipFill>
          <a:blip r:embed="rId5"/>
          <a:stretch/>
        </p:blipFill>
        <p:spPr>
          <a:xfrm>
            <a:off x="7812000" y="5805360"/>
            <a:ext cx="111600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3492360" y="2492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Куста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190160" y="549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275px-Ursus_arctos_syriacus"/>
          <p:cNvPicPr/>
          <p:nvPr/>
        </p:nvPicPr>
        <p:blipFill>
          <a:blip r:embed="rId1"/>
          <a:stretch/>
        </p:blipFill>
        <p:spPr>
          <a:xfrm>
            <a:off x="552600" y="506520"/>
            <a:ext cx="3100320" cy="29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J45E0CAFR2HSJCATLEWGUCAR1ES2ICAWJLVE6CAK82RA1CAE0873ACAZFIUD8CAV730ZICAVCBE8LCAV11BQJCA5WCLZ3CAH87A6MCAK35MSLCAI744IOCA2EIKC4CA8TTVKCCAP33HYMCALOUYT5CACFL4KZ"/>
          <p:cNvPicPr/>
          <p:nvPr/>
        </p:nvPicPr>
        <p:blipFill>
          <a:blip r:embed="rId2"/>
          <a:stretch/>
        </p:blipFill>
        <p:spPr>
          <a:xfrm>
            <a:off x="4356000" y="476280"/>
            <a:ext cx="2995560" cy="28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6ZGNQCATKBJ8KCA4AB0BBCAWLJHRMCA6GGV59CAT51Z3ICA37R562CAGHIJHKCA0ZAMSKCA29D16HCA1OLUKYCA5JNUVLCABU1LQFCA3ZRVU0CAO7HOW0CAKFZK65CAY706C4CAHH5KJ8CAXGFWIUCA9ADDZL"/>
          <p:cNvPicPr/>
          <p:nvPr/>
        </p:nvPicPr>
        <p:blipFill>
          <a:blip r:embed="rId3"/>
          <a:stretch/>
        </p:blipFill>
        <p:spPr>
          <a:xfrm>
            <a:off x="468360" y="3933720"/>
            <a:ext cx="3209760" cy="273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UW8Z7CA11QTVMCAN887O3CA2VKO5SCAI56VS2CA4LR60XCA8CA6URCA9WNH0MCAZEM08MCA4W7LQQCA5WA2M2CA0X4PEQCAAUY246CAPDR9RACAK9EFH1CAU0I1SDCAC8S89RCAQJZ3R4CA9MG3ZSCA8V0QK3"/>
          <p:cNvPicPr/>
          <p:nvPr/>
        </p:nvPicPr>
        <p:blipFill>
          <a:blip r:embed="rId4"/>
          <a:stretch/>
        </p:blipFill>
        <p:spPr>
          <a:xfrm>
            <a:off x="4419720" y="3876840"/>
            <a:ext cx="33336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75px-Moose_in_lake"/>
          <p:cNvPicPr/>
          <p:nvPr/>
        </p:nvPicPr>
        <p:blipFill>
          <a:blip r:embed="rId1"/>
          <a:stretch/>
        </p:blipFill>
        <p:spPr>
          <a:xfrm>
            <a:off x="179280" y="189000"/>
            <a:ext cx="2976840" cy="21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75px-Dortmund-Zoo-IMG_5518-a"/>
          <p:cNvPicPr/>
          <p:nvPr/>
        </p:nvPicPr>
        <p:blipFill>
          <a:blip r:embed="rId2"/>
          <a:stretch/>
        </p:blipFill>
        <p:spPr>
          <a:xfrm>
            <a:off x="3203640" y="1700280"/>
            <a:ext cx="33382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GTSMHCA7IDMKUCARGS91ACASH4C4VCA0LU2MICAXHHEW8CAUCFDM2CADRKE58CA0KKZ5TCABJLJWSCADI110TCA9B06AJCA8QUCRRCA30SMX0CA0TCMXXCADKC109CABP7L0MCAS8SY01CA7VPPDDCA6JAFCY"/>
          <p:cNvPicPr/>
          <p:nvPr/>
        </p:nvPicPr>
        <p:blipFill>
          <a:blip r:embed="rId3"/>
          <a:stretch/>
        </p:blipFill>
        <p:spPr>
          <a:xfrm>
            <a:off x="6300720" y="260280"/>
            <a:ext cx="263376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023"/>
          <p:cNvPicPr/>
          <p:nvPr/>
        </p:nvPicPr>
        <p:blipFill>
          <a:blip r:embed="rId4"/>
          <a:stretch/>
        </p:blipFill>
        <p:spPr>
          <a:xfrm>
            <a:off x="250920" y="4005360"/>
            <a:ext cx="3744720" cy="20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8-kabany"/>
          <p:cNvPicPr/>
          <p:nvPr/>
        </p:nvPicPr>
        <p:blipFill>
          <a:blip r:embed="rId5"/>
          <a:stretch/>
        </p:blipFill>
        <p:spPr>
          <a:xfrm>
            <a:off x="4716360" y="3933720"/>
            <a:ext cx="36054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2:47:00Z</dcterms:created>
  <dc:creator>Admin</dc:creator>
  <dc:description/>
  <dc:language>en-US</dc:language>
  <cp:lastModifiedBy>поиск</cp:lastModifiedBy>
  <dcterms:modified xsi:type="dcterms:W3CDTF">2013-01-18T15:32:52Z</dcterms:modified>
  <cp:revision>38</cp:revision>
  <dc:subject/>
  <dc:title>Слайд 1</dc:title>
</cp:coreProperties>
</file>